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B4D6-1767-4684-B650-A12312E7F3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1C1D-1E3F-4C6B-B9EB-25503E7F9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7D1B4-C66B-478F-9483-E33805D10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D8CF-3796-4E2F-93F2-94CABC4A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D6B81-1B39-44AE-9C0E-5BD8243A1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18DB-6E4A-4752-A3E3-0E1193C2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62668-5D6C-40AD-8611-E94F2709B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A2046-4406-4283-A373-0E4DBBFE9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8FDBF-03E3-4833-98B9-C75B53F60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6D2D1-6949-489F-A01E-8E1678BF4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D04D7-82AB-4431-A472-6FB03BF9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A78C2-835F-41A5-BCC2-0628F812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7429-1F05-4C99-B16B-FB6A3CC75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63A59-AF3A-4919-91A9-0A8211E77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D3D2-956F-4765-A746-18D7401FA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C1A2-5B7E-4723-9CAB-9E142AF91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3129F-0B89-4226-B9E0-D4EC04644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05F0E-D3EB-47C0-82D5-69108EFE5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8920C-7160-4B26-B522-24266421D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061B-FCFA-445A-87AF-117FC66A5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8F469-BCCE-4D6B-918F-66C73A099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CDC73-51C8-46F9-8244-9B750783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E633-030C-4072-872A-33D927DC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BE77-6AE9-4289-92E1-2CD931F6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2C2A-F55D-4B3D-9BD0-9939213C2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C61B-FC1E-4213-A5DD-2BB654D8D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3721-4BDD-415D-BBFA-5FD70C31A369}"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9CD4-8746-457B-B672-3DE68F45E0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B19C-078B-4A27-A2F2-262FD1ABF0AB}"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3D72-87C2-46C6-BA69-65EDD4918C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cc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7030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1368360" y="2322360"/>
            <a:ext cx="7709040" cy="444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Diabetes In Pregnancy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Arial"/>
              </a:rPr>
              <a:t>Screening and Diagnosis Diabetes in Pregnanc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or Lita Adam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Endocrinologis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Tuanku Ja’afar</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rasyikin Binti A. Wahab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r &amp; Consultant Endocrinologis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of Medicine, Universiti Kebangsaan Malays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5" descr=""/>
          <p:cNvPicPr/>
          <p:nvPr/>
        </p:nvPicPr>
        <p:blipFill>
          <a:blip r:embed="rId1"/>
          <a:srcRect l="24844" t="12660" r="40727" b="22364"/>
          <a:stretch/>
        </p:blipFill>
        <p:spPr>
          <a:xfrm>
            <a:off x="9315360" y="2665440"/>
            <a:ext cx="2675160" cy="40402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86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131"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3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7D86-FAD9-406E-8DEB-4B432D1AE9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62040" y="1355760"/>
            <a:ext cx="10941120" cy="5170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isk factors for gestational diabetes mellitus (G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creening for diabetes in pregnancy</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vert diabetes </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iagnosis of GDM and overt diabetes</a:t>
            </a:r>
            <a:endParaRPr b="0" lang="en-US" sz="2600" spc="-1" strike="noStrike">
              <a:solidFill>
                <a:srgbClr val="000000"/>
              </a:solidFill>
              <a:latin typeface="Arial"/>
            </a:endParaRPr>
          </a:p>
        </p:txBody>
      </p:sp>
      <p:graphicFrame>
        <p:nvGraphicFramePr>
          <p:cNvPr id="9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Outlin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5" name="Footer Placeholder 2"/>
          <p:cNvSpPr/>
          <p:nvPr/>
        </p:nvSpPr>
        <p:spPr>
          <a:xfrm>
            <a:off x="4038480" y="64818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9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9BF9-C0C2-46AD-B53F-C2A045ED59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62040" y="1355760"/>
            <a:ext cx="10941120" cy="5170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ody mass index (BMI) &gt;27 kg/m</a:t>
            </a:r>
            <a:r>
              <a:rPr b="0" lang="en-US" sz="2600" spc="-1" strike="noStrike" baseline="30000">
                <a:solidFill>
                  <a:srgbClr val="000000"/>
                </a:solidFill>
                <a:latin typeface="Arial"/>
                <a:ea typeface="Arial"/>
              </a:rPr>
              <a:t>2</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evious history of G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rst-degree relative with 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lycosuria ≥2+ on two occasions</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graphicFrame>
        <p:nvGraphicFramePr>
          <p:cNvPr id="9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Women at risk to develop GDM include:</a:t>
                      </a:r>
                      <a:r>
                        <a:rPr b="1" lang="en-MY" sz="4400" spc="-1" strike="noStrike" baseline="30000">
                          <a:solidFill>
                            <a:srgbClr val="ffffff"/>
                          </a:solidFill>
                          <a:latin typeface="Arial"/>
                        </a:rPr>
                        <a:t>4</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9" name="Rectangle 2"/>
          <p:cNvSpPr/>
          <p:nvPr/>
        </p:nvSpPr>
        <p:spPr>
          <a:xfrm>
            <a:off x="0" y="6273720"/>
            <a:ext cx="12192120" cy="5806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Arial"/>
              </a:rPr>
              <a:t>4. Malaysian Endocrine &amp; Metabolic Society and Ministry of Health Malaysia. Management of Type 2 Diabetes Mellitus (5</a:t>
            </a:r>
            <a:r>
              <a:rPr b="0" lang="en-MY" sz="1600" spc="-1" strike="noStrike" baseline="30000">
                <a:solidFill>
                  <a:srgbClr val="000000"/>
                </a:solidFill>
                <a:latin typeface="Arial Narrow"/>
                <a:ea typeface="Arial"/>
              </a:rPr>
              <a:t>th</a:t>
            </a:r>
            <a:r>
              <a:rPr b="0" lang="en-MY" sz="1600" spc="-1" strike="noStrike">
                <a:solidFill>
                  <a:srgbClr val="000000"/>
                </a:solidFill>
                <a:latin typeface="Arial Narrow"/>
                <a:ea typeface="Arial"/>
              </a:rPr>
              <a:t> Edition). Kuala Lumpur: MEMS &amp; MOH; 2015. </a:t>
            </a:r>
            <a:endParaRPr b="0" lang="en-US" sz="1600" spc="-1" strike="noStrike">
              <a:solidFill>
                <a:srgbClr val="000000"/>
              </a:solidFill>
              <a:latin typeface="Calibri"/>
            </a:endParaRPr>
          </a:p>
        </p:txBody>
      </p:sp>
      <p:sp>
        <p:nvSpPr>
          <p:cNvPr id="10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01"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A3DC-747C-46DF-B4DD-CFF154187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To identify asymptomatic patients who may have overt diabetes or GDM</a:t>
            </a:r>
            <a:endParaRPr b="0" lang="en-US" sz="36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2 types of screening;</a:t>
            </a:r>
            <a:endParaRPr b="0" lang="en-US" sz="3600" spc="-1" strike="noStrike">
              <a:solidFill>
                <a:srgbClr val="000000"/>
              </a:solidFill>
              <a:latin typeface="Arial"/>
            </a:endParaRPr>
          </a:p>
          <a:p>
            <a:pPr lvl="1" marL="9936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Universal -  screen all women </a:t>
            </a:r>
            <a:endParaRPr b="0" lang="en-US" sz="3200" spc="-1" strike="noStrike">
              <a:solidFill>
                <a:srgbClr val="000000"/>
              </a:solidFill>
              <a:latin typeface="Arial"/>
            </a:endParaRPr>
          </a:p>
          <a:p>
            <a:pPr lvl="1" marL="9936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Selective - high risk women </a:t>
            </a:r>
            <a:endParaRPr b="0" lang="en-US" sz="3200" spc="-1" strike="noStrike">
              <a:solidFill>
                <a:srgbClr val="000000"/>
              </a:solidFill>
              <a:latin typeface="Arial"/>
            </a:endParaRPr>
          </a:p>
        </p:txBody>
      </p:sp>
      <p:graphicFrame>
        <p:nvGraphicFramePr>
          <p:cNvPr id="10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Screening</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4" name="TextBox 3"/>
          <p:cNvSpPr/>
          <p:nvPr/>
        </p:nvSpPr>
        <p:spPr>
          <a:xfrm>
            <a:off x="101520" y="6249960"/>
            <a:ext cx="12090600" cy="5806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3. Tieu J, McPhee AJ, Crowther CA, et al. Screening and subsequent management for gestational diabetes for improving maternal and infant health. Cochrane Database Syst Rev. 2014;(2):CD007222.</a:t>
            </a:r>
            <a:endParaRPr b="0" lang="en-US" sz="1600" spc="-1" strike="noStrike">
              <a:solidFill>
                <a:srgbClr val="000000"/>
              </a:solidFill>
              <a:latin typeface="Calibri"/>
            </a:endParaRPr>
          </a:p>
        </p:txBody>
      </p:sp>
      <p:sp>
        <p:nvSpPr>
          <p:cNvPr id="10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0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2395-AEE9-448E-9697-B8459CDB5A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OGTT has been recommended by international guidelines.</a:t>
            </a:r>
            <a:r>
              <a:rPr b="0" lang="en-MY" sz="2800" spc="-1" strike="noStrike" baseline="30000">
                <a:solidFill>
                  <a:srgbClr val="000000"/>
                </a:solidFill>
                <a:latin typeface="Arial"/>
                <a:ea typeface="Arial"/>
              </a:rPr>
              <a:t>5,6,7,8 </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t should be done at booking for high risk women, and repeated at 24-28 weeks of gestation if the initial result was negative.</a:t>
            </a:r>
            <a:r>
              <a:rPr b="0" lang="en-MY" sz="2800" spc="-1" strike="noStrike" baseline="30000">
                <a:solidFill>
                  <a:srgbClr val="000000"/>
                </a:solidFill>
                <a:latin typeface="Arial"/>
                <a:ea typeface="Arial"/>
              </a:rPr>
              <a:t>4, 6</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bA1c alone is not useful as diagnostic test for GDM.</a:t>
            </a:r>
            <a:r>
              <a:rPr b="0" lang="en-MY" sz="2800" spc="-1" strike="noStrike" baseline="30000">
                <a:solidFill>
                  <a:srgbClr val="000000"/>
                </a:solidFill>
                <a:latin typeface="Arial"/>
                <a:ea typeface="Arial"/>
              </a:rPr>
              <a:t>9</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Random blood sugar measurement is inadequate test to screen for GDM.</a:t>
            </a:r>
            <a:r>
              <a:rPr b="0" lang="en-MY" sz="2800" spc="-1" strike="noStrike" baseline="30000">
                <a:solidFill>
                  <a:srgbClr val="000000"/>
                </a:solidFill>
                <a:latin typeface="Arial"/>
                <a:ea typeface="Arial"/>
              </a:rPr>
              <a:t>10</a:t>
            </a:r>
            <a:r>
              <a:rPr b="0" lang="en-MY" sz="2800" spc="-1" strike="noStrike">
                <a:solidFill>
                  <a:srgbClr val="000000"/>
                </a:solidFill>
                <a:latin typeface="Arial"/>
                <a:ea typeface="Arial"/>
              </a:rPr>
              <a:t> </a:t>
            </a:r>
            <a:endParaRPr b="0" lang="en-US" sz="2800" spc="-1" strike="noStrike">
              <a:solidFill>
                <a:srgbClr val="000000"/>
              </a:solidFill>
              <a:latin typeface="Arial"/>
            </a:endParaRPr>
          </a:p>
        </p:txBody>
      </p:sp>
      <p:graphicFrame>
        <p:nvGraphicFramePr>
          <p:cNvPr id="10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Diagnosi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9" name="TextBox 3"/>
          <p:cNvSpPr/>
          <p:nvPr/>
        </p:nvSpPr>
        <p:spPr>
          <a:xfrm>
            <a:off x="-25560" y="4602240"/>
            <a:ext cx="12192120" cy="227196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300" spc="-1" strike="noStrike">
                <a:solidFill>
                  <a:srgbClr val="000000"/>
                </a:solidFill>
                <a:latin typeface="Arial Narrow"/>
                <a:ea typeface="Arial"/>
              </a:rPr>
              <a:t>4.</a:t>
            </a:r>
            <a:r>
              <a:rPr b="0" lang="en-MY" sz="1300" spc="-1" strike="noStrike">
                <a:solidFill>
                  <a:srgbClr val="000000"/>
                </a:solidFill>
                <a:latin typeface="Arial Narrow"/>
                <a:ea typeface="Arial"/>
              </a:rPr>
              <a:t>	</a:t>
            </a:r>
            <a:r>
              <a:rPr b="0" lang="en-MY" sz="1300" spc="-1" strike="noStrike">
                <a:solidFill>
                  <a:srgbClr val="000000"/>
                </a:solidFill>
                <a:latin typeface="Arial Narrow"/>
                <a:ea typeface="Arial"/>
              </a:rPr>
              <a:t>Malaysian Endocrine &amp; Metabolic Society and Ministry of Health Malaysia. Management of Type 2 Diabetes Mellitus (5th Edition).  Kuala Lumpur: MEMS &amp; MOH; 2015.</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5.</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Farrar D, Duley L, Medley N, et al. Different strategies for diagnosing gestational diabetes to improve maternal and infant health. Cochrane Database Syst Rev. 2015; 1:CD007122.</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6.</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National Collaborating Centre for Women’s and Children’s Health (UK). Diabetes in pregnancy: management of diabetes and its complications from preconception to the postnatal period. London: NICE; 2015.</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7.</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American Diabetes Association. 2. Classification and diagnosis of diabetes. Diabetes care. 2015;38(Supplement 1):S8-16.</a:t>
            </a:r>
            <a:endParaRPr b="0" lang="en-US" sz="1300" spc="-1" strike="noStrike">
              <a:solidFill>
                <a:srgbClr val="000000"/>
              </a:solidFill>
              <a:latin typeface="Calibri"/>
            </a:endParaRPr>
          </a:p>
          <a:p>
            <a:pPr marL="268200" indent="-268200" algn="just">
              <a:lnSpc>
                <a:spcPct val="100000"/>
              </a:lnSpc>
              <a:buClr>
                <a:srgbClr val="000000"/>
              </a:buClr>
              <a:buFont typeface="Arial Narrow"/>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300" spc="-1" strike="noStrike">
              <a:solidFill>
                <a:srgbClr val="000000"/>
              </a:solidFill>
              <a:latin typeface="Calibri"/>
            </a:endParaRPr>
          </a:p>
          <a:p>
            <a:pPr marL="268200" indent="-268200" algn="just">
              <a:lnSpc>
                <a:spcPct val="100000"/>
              </a:lnSpc>
              <a:buClr>
                <a:srgbClr val="000000"/>
              </a:buClr>
              <a:buFont typeface="Arial Narrow"/>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Lowe LP, Metzger BE, Dyer AR, et al. Hyperglycemia and Adverse Pregnancy Outcome (HAPO) Study: associations of maternal A1C and glucose with pregnancy outcomes. Diabetes Care. 2012;35(3):574-580.</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10.  van Leeuwen M, Opmeer BC, Yilmaz Y, et al. Accuracy of the random glucose test as screening test for gestational diabetes mellitus: a systematic review. Eur J Obstet Gynecol Reprod Biol. 2011;154(2):130-135.</a:t>
            </a:r>
            <a:endParaRPr b="0" lang="en-US" sz="1300" spc="-1" strike="noStrike">
              <a:solidFill>
                <a:srgbClr val="000000"/>
              </a:solidFill>
              <a:latin typeface="Calibri"/>
            </a:endParaRPr>
          </a:p>
        </p:txBody>
      </p:sp>
      <p:sp>
        <p:nvSpPr>
          <p:cNvPr id="11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1"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2C1E-1898-4D0D-9018-88693C1191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No universally accepted definition</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Diagnosis is made when blood glucose level is high during the first trimester</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A second test must be performed on another day to confirm the diagnosis either by using FPG, RPG, HbA1C, or OGTT.</a:t>
            </a:r>
            <a:r>
              <a:rPr b="0" lang="en-MY" sz="3000" spc="-1" strike="noStrike" baseline="30000">
                <a:solidFill>
                  <a:srgbClr val="000000"/>
                </a:solidFill>
                <a:latin typeface="Arial"/>
                <a:ea typeface="Arial"/>
              </a:rPr>
              <a:t>11</a:t>
            </a:r>
            <a:r>
              <a:rPr b="0" lang="en-MY" sz="3000" spc="-1" strike="noStrike">
                <a:solidFill>
                  <a:srgbClr val="000000"/>
                </a:solidFill>
                <a:latin typeface="Arial"/>
                <a:ea typeface="Arial"/>
              </a:rPr>
              <a:t> </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If results indicate overt diabetes, treatment and follow-up should be carried out as for pre-existing diabetes.</a:t>
            </a:r>
            <a:r>
              <a:rPr b="0" lang="en-MY" sz="3000" spc="-1" strike="noStrike" baseline="30000">
                <a:solidFill>
                  <a:srgbClr val="000000"/>
                </a:solidFill>
                <a:latin typeface="Arial"/>
                <a:ea typeface="Arial"/>
              </a:rPr>
              <a:t>8,12</a:t>
            </a:r>
            <a:endParaRPr b="0" lang="en-US" sz="3000" spc="-1" strike="noStrike">
              <a:solidFill>
                <a:srgbClr val="000000"/>
              </a:solidFill>
              <a:latin typeface="Arial"/>
            </a:endParaRPr>
          </a:p>
        </p:txBody>
      </p:sp>
      <p:graphicFrame>
        <p:nvGraphicFramePr>
          <p:cNvPr id="11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4" name="TextBox 3"/>
          <p:cNvSpPr/>
          <p:nvPr/>
        </p:nvSpPr>
        <p:spPr>
          <a:xfrm>
            <a:off x="0" y="5932440"/>
            <a:ext cx="12192120" cy="94644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8.</a:t>
            </a: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400" spc="-1" strike="noStrike">
              <a:solidFill>
                <a:srgbClr val="000000"/>
              </a:solidFill>
              <a:latin typeface="Calibri"/>
            </a:endParaRPr>
          </a:p>
          <a:p>
            <a:pPr marL="268200" indent="-268200">
              <a:lnSpc>
                <a:spcPct val="100000"/>
              </a:lnSpc>
              <a:buClr>
                <a:srgbClr val="000000"/>
              </a:buClr>
              <a:buFont typeface="Arial Narrow"/>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Narrow"/>
                <a:ea typeface="Arial"/>
              </a:rPr>
              <a:t>Blumer I, Hadar E, Hadden DR, et al. Diabetes and pregnancy: an endocrine society clinical practice guideline. J Clin Endocrinol Metab. 2013;98(11):4227-4249.</a:t>
            </a:r>
            <a:endParaRPr b="0" lang="en-US" sz="1400" spc="-1" strike="noStrike">
              <a:solidFill>
                <a:srgbClr val="000000"/>
              </a:solidFill>
              <a:latin typeface="Calibri"/>
            </a:endParaRPr>
          </a:p>
          <a:p>
            <a:pPr marL="268200" indent="-268200">
              <a:lnSpc>
                <a:spcPct val="100000"/>
              </a:lnSpc>
              <a:buClr>
                <a:srgbClr val="000000"/>
              </a:buClr>
              <a:buFont typeface="Arial Narrow"/>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Narrow"/>
                <a:ea typeface="Arial"/>
              </a:rPr>
              <a:t>Ministry of Health. Screening, Diagnosis and Management of Gestational Diabetes in New Zealand: A clinical practice guideline. Wellington: Ministry of Health. 2014.</a:t>
            </a:r>
            <a:endParaRPr b="0" lang="en-US" sz="1400" spc="-1" strike="noStrike">
              <a:solidFill>
                <a:srgbClr val="000000"/>
              </a:solidFill>
              <a:latin typeface="Calibri"/>
            </a:endParaRPr>
          </a:p>
        </p:txBody>
      </p:sp>
      <p:sp>
        <p:nvSpPr>
          <p:cNvPr id="11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78E4-33F1-4120-8BD0-79764DA3F5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31680" y="25560"/>
          <a:ext cx="12060360" cy="1077840"/>
        </p:xfrm>
        <a:graphic>
          <a:graphicData uri="http://schemas.openxmlformats.org/drawingml/2006/table">
            <a:tbl>
              <a:tblPr/>
              <a:tblGrid>
                <a:gridCol w="12060360"/>
              </a:tblGrid>
              <a:tr h="1077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000" spc="-1" strike="noStrike">
                          <a:solidFill>
                            <a:srgbClr val="ffffff"/>
                          </a:solidFill>
                          <a:latin typeface="Arial"/>
                        </a:rPr>
                        <a:t>Diagnosis of GDM and Overt Diabetes Mellitus</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19" name="Picture 10" descr=""/>
          <p:cNvPicPr/>
          <p:nvPr/>
        </p:nvPicPr>
        <p:blipFill>
          <a:blip r:embed="rId1"/>
          <a:stretch/>
        </p:blipFill>
        <p:spPr>
          <a:xfrm>
            <a:off x="811080" y="1303200"/>
            <a:ext cx="10771200" cy="5008680"/>
          </a:xfrm>
          <a:prstGeom prst="rect">
            <a:avLst/>
          </a:prstGeom>
          <a:ln w="0">
            <a:noFill/>
          </a:ln>
        </p:spPr>
      </p:pic>
      <p:sp>
        <p:nvSpPr>
          <p:cNvPr id="12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6AA3-5C9C-45B6-97B3-9B350FA2A0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22" name="Picture 5" descr=""/>
          <p:cNvPicPr/>
          <p:nvPr/>
        </p:nvPicPr>
        <p:blipFill>
          <a:blip r:embed="rId1"/>
          <a:srcRect l="5539" t="0" r="4148" b="31049"/>
          <a:stretch/>
        </p:blipFill>
        <p:spPr>
          <a:xfrm>
            <a:off x="130320" y="324000"/>
            <a:ext cx="5946480" cy="6149880"/>
          </a:xfrm>
          <a:prstGeom prst="rect">
            <a:avLst/>
          </a:prstGeom>
          <a:ln w="0">
            <a:noFill/>
          </a:ln>
        </p:spPr>
      </p:pic>
      <p:pic>
        <p:nvPicPr>
          <p:cNvPr id="123" name="Picture 6" descr=""/>
          <p:cNvPicPr/>
          <p:nvPr/>
        </p:nvPicPr>
        <p:blipFill>
          <a:blip r:embed="rId2"/>
          <a:srcRect l="2397" t="69644" r="3301" b="0"/>
          <a:stretch/>
        </p:blipFill>
        <p:spPr>
          <a:xfrm>
            <a:off x="6095880" y="2832120"/>
            <a:ext cx="6018480" cy="2624040"/>
          </a:xfrm>
          <a:prstGeom prst="rect">
            <a:avLst/>
          </a:prstGeom>
          <a:ln w="0">
            <a:noFill/>
          </a:ln>
        </p:spPr>
      </p:pic>
      <p:sp>
        <p:nvSpPr>
          <p:cNvPr id="124" name="Rectangle 1"/>
          <p:cNvSpPr/>
          <p:nvPr/>
        </p:nvSpPr>
        <p:spPr>
          <a:xfrm>
            <a:off x="6140520" y="1281240"/>
            <a:ext cx="57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Arial"/>
                <a:ea typeface="Arial"/>
              </a:rPr>
              <a:t>ALGORITHM 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Arial"/>
                <a:ea typeface="Arial"/>
              </a:rPr>
              <a:t>SCREENING AND DIAGNOSIS OF DIABETES </a:t>
            </a:r>
            <a:r>
              <a:rPr b="1" lang="en-US" sz="2400" spc="-1" strike="noStrike">
                <a:solidFill>
                  <a:srgbClr val="000000"/>
                </a:solidFill>
                <a:latin typeface="Arial"/>
                <a:ea typeface="Arial"/>
              </a:rPr>
              <a:t>IN PREGNANCY</a:t>
            </a:r>
            <a:endParaRPr b="0" lang="en-US" sz="2400" spc="-1" strike="noStrike">
              <a:solidFill>
                <a:srgbClr val="000000"/>
              </a:solidFill>
              <a:latin typeface="Calibri"/>
            </a:endParaRPr>
          </a:p>
        </p:txBody>
      </p:sp>
      <p:sp>
        <p:nvSpPr>
          <p:cNvPr id="12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C38C-18B2-4D1E-93DE-48F89B8720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Screening for GDM based on risk factors using 75 gram OGTT should be done at booking.</a:t>
            </a:r>
            <a:endParaRPr b="0" lang="en-US" sz="3000" spc="-1" strike="noStrike">
              <a:solidFill>
                <a:srgbClr val="000000"/>
              </a:solidFill>
              <a:latin typeface="Arial"/>
            </a:endParaRPr>
          </a:p>
          <a:p>
            <a:pPr lvl="1" marL="10098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600" spc="-1" strike="noStrike">
                <a:solidFill>
                  <a:srgbClr val="000000"/>
                </a:solidFill>
                <a:latin typeface="Arial"/>
                <a:ea typeface="Arial"/>
              </a:rPr>
              <a:t>If the test is negative, it should be repeated at 24-28 weeks of gestation.</a:t>
            </a:r>
            <a:endParaRPr b="0" lang="en-US" sz="26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For women at the age of 25 or more with no other risk factors, OGTT should be done at 24-28 weeks of gestation.</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Overt diabetes in pregnancy should be managed as pre-existing diabetes</a:t>
            </a:r>
            <a:endParaRPr b="0" lang="en-US" sz="3000" spc="-1" strike="noStrike">
              <a:solidFill>
                <a:srgbClr val="000000"/>
              </a:solidFill>
              <a:latin typeface="Arial"/>
            </a:endParaRPr>
          </a:p>
          <a:p>
            <a:pPr marL="536400" indent="-4410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4410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Recommendation 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2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E11D-6ADE-4C86-A0AA-E4DFCC7CD8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3:30:34Z</dcterms:created>
  <dc:creator>Norasyikin A Wahab</dc:creator>
  <dc:description/>
  <dc:language>en-US</dc:language>
  <cp:lastModifiedBy>Ainol</cp:lastModifiedBy>
  <dcterms:modified xsi:type="dcterms:W3CDTF">2018-07-19T06:28:39Z</dcterms:modified>
  <cp:revision>53</cp:revision>
  <dc:subject/>
  <dc:title>PowerPoint Presentation</dc:title>
</cp:coreProperties>
</file>